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2A5-837A-4219-9A96-AC2CE5C8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C3F-9134-4DF3-9911-1F4D60D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D4C-1693-433C-B242-97C200C1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42D-3BC9-4B30-B89B-B4932967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83AC-0044-460F-99AC-A51DFAEC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AF20-1A4B-4193-AE6C-EE4CB86B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112D-EF01-4CB3-9E5B-1FA60494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53B5-9BA4-4DC4-9DFF-0ABD57EF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312A-D26A-4D76-B921-88F56EF4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0D50-AF8F-4B31-9627-F948207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4EE9-63E6-48FC-8DF8-7F78757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794-757A-489E-B7DA-FDCB1B17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C43B-FC93-4D34-9155-9A9F89D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A733-6D1E-4D18-94FF-E5AEC477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BD89-5183-4C1C-99A0-3C012FC2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49E7-9B32-4710-A087-48E00580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3E86-B5CA-4C53-9263-E137C17B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A8C-8C73-4E78-839C-94BD5181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D5B-B23E-4B2A-B7BC-C931DE5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856-ED0B-4464-96E2-5BAD93CA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0CE3-1AD7-4491-8A56-20E5E986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31D-D00B-469A-BD7B-A927FE5D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420-7BC0-4D6B-AABB-8E37783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E00-567D-4E76-BDB4-D39F6015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8462-3BA7-4A5F-95EE-87A4C1C21A5B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C4B9-01DE-44CD-9345-E66EF07C316F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C817-3765-4951-AB71-48E21B052D02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EE3D-08C2-4723-AE51-AF85B2079428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hk/imgres?imgurl=http://menopausemind.com/wp-content/uploads/2012/04/exercise.jpg&amp;imgrefurl=http://menopausemind.com/%3Ftag%3Daerobic-exercise&amp;usg=__sWFPDkGBKKpaf1JeYpSFU1nwoyE=&amp;h=1000&amp;w=1000&amp;sz=363&amp;hl=zh-CN&amp;start=51&amp;zoom=1&amp;tbnid=HhErqOPiEvnFoM:&amp;tbnh=149&amp;tbnw=149&amp;ei=H5EEUpSIKsaciAfx9IHwCA&amp;prev=/search%3Fq%3Dexercise%26start%3D40%26newwindow%3D1%26safe%3Dstrict%26sa%3DN%26hl%3Dzh-CN%26gbv%3D2%26tbm%3Disch&amp;itbs=1&amp;sa=X&amp;ved=0CD8QrQMwCjgo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447920" y="213372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8  Stay Healthy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ANd9GcSAGnhMv9Zf4JAcU6-T4F24dqi1cJd2akrd4y8bwxfLlWGArQwon7-vLS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2781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音乐可以让我快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 _____ _____ can make me happ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锻炼会让你保持年轻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 can _____ you you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喜欢做运动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 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文本框 37894"/>
          <p:cNvSpPr/>
          <p:nvPr/>
        </p:nvSpPr>
        <p:spPr>
          <a:xfrm>
            <a:off x="1371600" y="266688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sten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文本框 37899"/>
          <p:cNvSpPr/>
          <p:nvPr/>
        </p:nvSpPr>
        <p:spPr>
          <a:xfrm>
            <a:off x="1414440" y="3733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文本框 37901"/>
          <p:cNvSpPr/>
          <p:nvPr/>
        </p:nvSpPr>
        <p:spPr>
          <a:xfrm>
            <a:off x="3429000" y="4800600"/>
            <a:ext cx="23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矩形 37907"/>
          <p:cNvSpPr/>
          <p:nvPr/>
        </p:nvSpPr>
        <p:spPr>
          <a:xfrm>
            <a:off x="3200400" y="373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e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矩形 37908"/>
          <p:cNvSpPr/>
          <p:nvPr/>
        </p:nvSpPr>
        <p:spPr>
          <a:xfrm>
            <a:off x="2895480" y="266688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文本框 37914"/>
          <p:cNvSpPr/>
          <p:nvPr/>
        </p:nvSpPr>
        <p:spPr>
          <a:xfrm>
            <a:off x="4419720" y="4800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ort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矩形 37916"/>
          <p:cNvSpPr/>
          <p:nvPr/>
        </p:nvSpPr>
        <p:spPr>
          <a:xfrm>
            <a:off x="35053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5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37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3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4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5" name="文本框 33897"/>
          <p:cNvSpPr/>
          <p:nvPr/>
        </p:nvSpPr>
        <p:spPr>
          <a:xfrm>
            <a:off x="1143000" y="2622600"/>
            <a:ext cx="7086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通过学习本课，你知道如何让自己保持健康了吗？请你用自己的话来总结一下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63495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 man cannot spin and reel at the same tim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心不能二用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7" name="图片 63497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6349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209680" y="2895480"/>
            <a:ext cx="6629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to stay health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have any good tip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矩形 44053"/>
          <p:cNvSpPr/>
          <p:nvPr/>
        </p:nvSpPr>
        <p:spPr>
          <a:xfrm>
            <a:off x="3809880" y="52275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rai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55" descr="u=4002070380,2683306380&amp;fm=52&amp;gp=0"/>
          <p:cNvPicPr/>
          <p:nvPr/>
        </p:nvPicPr>
        <p:blipFill>
          <a:blip r:embed="rId1"/>
          <a:srcRect l="0" t="0" r="0" b="3852"/>
          <a:stretch/>
        </p:blipFill>
        <p:spPr>
          <a:xfrm>
            <a:off x="2133720" y="1981080"/>
            <a:ext cx="48574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4275"/>
          <p:cNvSpPr/>
          <p:nvPr/>
        </p:nvSpPr>
        <p:spPr>
          <a:xfrm>
            <a:off x="5029920" y="1828800"/>
            <a:ext cx="30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are they doing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矩形 54276"/>
          <p:cNvSpPr/>
          <p:nvPr/>
        </p:nvSpPr>
        <p:spPr>
          <a:xfrm>
            <a:off x="5127480" y="243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are runni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矩形 54277"/>
          <p:cNvSpPr/>
          <p:nvPr/>
        </p:nvSpPr>
        <p:spPr>
          <a:xfrm>
            <a:off x="5181480" y="3048120"/>
            <a:ext cx="3353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unning can help u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member informatio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图片 54279" descr="u=298397754,3251340932&amp;fm=9&amp;gp=0"/>
          <p:cNvPicPr/>
          <p:nvPr/>
        </p:nvPicPr>
        <p:blipFill>
          <a:blip r:embed="rId1"/>
          <a:srcRect l="0" t="0" r="0" b="16473"/>
          <a:stretch/>
        </p:blipFill>
        <p:spPr>
          <a:xfrm>
            <a:off x="1143000" y="1676520"/>
            <a:ext cx="3333600" cy="2895480"/>
          </a:xfrm>
          <a:prstGeom prst="rect">
            <a:avLst/>
          </a:prstGeom>
          <a:ln w="0">
            <a:noFill/>
          </a:ln>
        </p:spPr>
      </p:pic>
      <p:sp>
        <p:nvSpPr>
          <p:cNvPr id="94" name="矩形 54280"/>
          <p:cNvSpPr/>
          <p:nvPr/>
        </p:nvSpPr>
        <p:spPr>
          <a:xfrm>
            <a:off x="3353040" y="495288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unning is a kind of exercise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55299"/>
          <p:cNvSpPr/>
          <p:nvPr/>
        </p:nvSpPr>
        <p:spPr>
          <a:xfrm>
            <a:off x="2286000" y="1219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other exercise do you do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" name="图片 55301" descr="u=1630841363,3726135030&amp;fm=52&amp;gp=0"/>
          <p:cNvPicPr/>
          <p:nvPr/>
        </p:nvPicPr>
        <p:blipFill>
          <a:blip r:embed="rId1"/>
          <a:srcRect l="0" t="5136" r="0" b="0"/>
          <a:stretch/>
        </p:blipFill>
        <p:spPr>
          <a:xfrm>
            <a:off x="1219320" y="2209680"/>
            <a:ext cx="209556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5303" descr="u=680525016,763402770&amp;fm=52&amp;gp=0"/>
          <p:cNvPicPr/>
          <p:nvPr/>
        </p:nvPicPr>
        <p:blipFill>
          <a:blip r:embed="rId2"/>
          <a:stretch/>
        </p:blipFill>
        <p:spPr>
          <a:xfrm>
            <a:off x="3809880" y="2247840"/>
            <a:ext cx="1752840" cy="2095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5305" descr="u=1576499143,2611590113&amp;fm=23&amp;gp=0"/>
          <p:cNvPicPr/>
          <p:nvPr/>
        </p:nvPicPr>
        <p:blipFill>
          <a:blip r:embed="rId3"/>
          <a:stretch/>
        </p:blipFill>
        <p:spPr>
          <a:xfrm>
            <a:off x="6095880" y="2314440"/>
            <a:ext cx="1676520" cy="2028960"/>
          </a:xfrm>
          <a:prstGeom prst="rect">
            <a:avLst/>
          </a:prstGeom>
          <a:ln w="0">
            <a:noFill/>
          </a:ln>
        </p:spPr>
      </p:pic>
      <p:sp>
        <p:nvSpPr>
          <p:cNvPr id="99" name="矩形 55306"/>
          <p:cNvSpPr/>
          <p:nvPr/>
        </p:nvSpPr>
        <p:spPr>
          <a:xfrm>
            <a:off x="1828800" y="4495680"/>
            <a:ext cx="1371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l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矩形 55307"/>
          <p:cNvSpPr/>
          <p:nvPr/>
        </p:nvSpPr>
        <p:spPr>
          <a:xfrm>
            <a:off x="6089760" y="4429080"/>
            <a:ext cx="2137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ping-po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矩形 55308"/>
          <p:cNvSpPr/>
          <p:nvPr/>
        </p:nvSpPr>
        <p:spPr>
          <a:xfrm>
            <a:off x="3658320" y="4495680"/>
            <a:ext cx="2155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basketba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55311"/>
          <p:cNvSpPr/>
          <p:nvPr/>
        </p:nvSpPr>
        <p:spPr>
          <a:xfrm>
            <a:off x="1789560" y="5181480"/>
            <a:ext cx="4915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ercise c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ep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our brains young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53251"/>
          <p:cNvSpPr/>
          <p:nvPr/>
        </p:nvSpPr>
        <p:spPr>
          <a:xfrm>
            <a:off x="5029920" y="2057400"/>
            <a:ext cx="30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are they doing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53254"/>
          <p:cNvSpPr/>
          <p:nvPr/>
        </p:nvSpPr>
        <p:spPr>
          <a:xfrm>
            <a:off x="5126760" y="266688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are readi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图片 53262" descr="u=2995253449,1794428876&amp;fm=23&amp;gp=0"/>
          <p:cNvPicPr/>
          <p:nvPr/>
        </p:nvPicPr>
        <p:blipFill>
          <a:blip r:embed="rId1"/>
          <a:srcRect l="0" t="0" r="0" b="5486"/>
          <a:stretch/>
        </p:blipFill>
        <p:spPr>
          <a:xfrm>
            <a:off x="914400" y="1752480"/>
            <a:ext cx="35812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矩形 53263"/>
          <p:cNvSpPr/>
          <p:nvPr/>
        </p:nvSpPr>
        <p:spPr>
          <a:xfrm>
            <a:off x="5181480" y="3276720"/>
            <a:ext cx="3353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ing can exercise our mi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4409"/>
          <p:cNvSpPr/>
          <p:nvPr/>
        </p:nvSpPr>
        <p:spPr>
          <a:xfrm>
            <a:off x="1447920" y="2362320"/>
            <a:ext cx="4952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od for the Min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14337"/>
          <p:cNvSpPr/>
          <p:nvPr/>
        </p:nvSpPr>
        <p:spPr>
          <a:xfrm>
            <a:off x="1066680" y="76212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dd some activities to the lists below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矩形 14403"/>
          <p:cNvSpPr/>
          <p:nvPr/>
        </p:nvSpPr>
        <p:spPr>
          <a:xfrm>
            <a:off x="146844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ding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矩形 14410"/>
          <p:cNvSpPr/>
          <p:nvPr/>
        </p:nvSpPr>
        <p:spPr>
          <a:xfrm>
            <a:off x="1468440" y="3662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istening to music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流程图: 可选过程 14412"/>
          <p:cNvSpPr/>
          <p:nvPr/>
        </p:nvSpPr>
        <p:spPr>
          <a:xfrm>
            <a:off x="1219320" y="2438280"/>
            <a:ext cx="3124080" cy="3276720"/>
          </a:xfrm>
          <a:prstGeom prst="flowChartAlternateProcess">
            <a:avLst/>
          </a:prstGeom>
          <a:noFill/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流程图: 可选过程 14413"/>
          <p:cNvSpPr/>
          <p:nvPr/>
        </p:nvSpPr>
        <p:spPr>
          <a:xfrm>
            <a:off x="4952880" y="2438280"/>
            <a:ext cx="3124440" cy="3276720"/>
          </a:xfrm>
          <a:prstGeom prst="flowChartAlternateProcess">
            <a:avLst/>
          </a:prstGeom>
          <a:noFill/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矩形 14414"/>
          <p:cNvSpPr/>
          <p:nvPr/>
        </p:nvSpPr>
        <p:spPr>
          <a:xfrm>
            <a:off x="1468440" y="4200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riting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矩形 14415"/>
          <p:cNvSpPr/>
          <p:nvPr/>
        </p:nvSpPr>
        <p:spPr>
          <a:xfrm>
            <a:off x="1468440" y="4740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atching TV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矩形 14416"/>
          <p:cNvSpPr/>
          <p:nvPr/>
        </p:nvSpPr>
        <p:spPr>
          <a:xfrm>
            <a:off x="5257800" y="2362320"/>
            <a:ext cx="4952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od for the Bod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矩形 14417"/>
          <p:cNvSpPr/>
          <p:nvPr/>
        </p:nvSpPr>
        <p:spPr>
          <a:xfrm>
            <a:off x="5105520" y="3149640"/>
            <a:ext cx="304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ting vegetables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矩形 14419"/>
          <p:cNvSpPr/>
          <p:nvPr/>
        </p:nvSpPr>
        <p:spPr>
          <a:xfrm>
            <a:off x="5105520" y="3683160"/>
            <a:ext cx="365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 ping-pa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mbing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 football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5361"/>
          <p:cNvSpPr/>
          <p:nvPr/>
        </p:nvSpPr>
        <p:spPr>
          <a:xfrm>
            <a:off x="838080" y="1600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should exercise our mi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应该锻炼我们的心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文本框 15362"/>
          <p:cNvSpPr/>
          <p:nvPr/>
        </p:nvSpPr>
        <p:spPr>
          <a:xfrm>
            <a:off x="1143000" y="259092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ercis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动词，意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锻炼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它也可作名词，表示“练习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“锻炼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般为不可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exercise every week?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每周都锻炼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’s do some exercises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我们做些练习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1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6385"/>
          <p:cNvSpPr/>
          <p:nvPr/>
        </p:nvSpPr>
        <p:spPr>
          <a:xfrm>
            <a:off x="91440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Exercise can keep our brains young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锻炼可以让我们的大脑保持年轻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文本框 16386"/>
          <p:cNvSpPr/>
          <p:nvPr/>
        </p:nvSpPr>
        <p:spPr>
          <a:xfrm>
            <a:off x="1219320" y="2031840"/>
            <a:ext cx="7315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ee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常跟形容词或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-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作宾语补足语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should keep our room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ea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形容词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应该保持我们的房间干净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kep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ining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for two days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动名词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雨一直下了两天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29:51Z</dcterms:created>
  <dc:creator/>
  <dc:description/>
  <dc:language>en-US</dc:language>
  <cp:lastModifiedBy>Administrator</cp:lastModifiedBy>
  <dcterms:modified xsi:type="dcterms:W3CDTF">2019-01-02T01:30:50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